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E45-AE8F-4EEA-8B0B-33D1B5C1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BE8-BD11-4C64-AAB6-05ED1695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136-D8BE-4BB2-BBCA-B2EECFA4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29F-DA4B-4CB9-997E-0BDDBF96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D449-8F2E-45CE-B52B-D0FB929D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B8A-EB0F-450D-8852-7EB76229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105-1233-4B08-A031-7BEAFAB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C035-81F2-4137-B54B-0F59910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A223-0580-4399-87D2-BB3FEDE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3CD8-11E8-4BD6-A21A-0FC15252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6A42-E8AA-4DEE-9F63-36A3FF65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4FB-FB4D-4F28-8262-0768B45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E68-1A64-46DD-AE29-FF7884CC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4F64-E614-4B33-AA72-E846E4DA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55A7-09BE-42C7-BA24-99BC53F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A1AF-FB69-4F3F-9B35-32E2077C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D32-6829-4A3E-92E5-62F3E06E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4DA-3807-4818-B168-2BE7E33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F5D-A7C7-44BD-8D5B-6452B71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39C-1598-4D8E-B4A1-43E316B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890-4121-42E3-B63E-4798388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A6F-39AC-405D-83FD-F9AC217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C91-E9B4-4743-83F0-48A0F91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DDD-F1CB-497D-8EDC-A946E22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575E-5369-487C-B3AF-0648A4C5C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CDD-1E1C-4C65-AA8F-CE02B9BAF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Welcome to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!</a:t>
            </a:r>
            <a:br>
              <a:rPr sz="76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895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th Mr. Ful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489240" cy="106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48440" y="1676520"/>
            <a:ext cx="2095560" cy="1047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290680"/>
            <a:ext cx="7848720" cy="4567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152280" y="312408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315200" y="152280"/>
            <a:ext cx="1600200" cy="122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8480" y="3809880"/>
            <a:ext cx="3581640" cy="210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457200" y="28954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ase Not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are usually a hint to you will see on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es and Bellwork often contain test questions or diagrams that you will most likely come across during a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way to get a good grade in class is to complete note summaries and bellwork!!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Labs and Activit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and Activities are worth 2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notes, we will usually spend between 30 and 40 minutes on a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s or Activities are due either the day they are assigned or the day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take lab safety very seri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goofing around in lab will receive a zero on the assignment for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one caught abusing school property and lab materials will also receive a zero on the assignment for that da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absent for a lab, come see about a makeup assig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should always be written in comple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 Write-U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is the purpose of this lab? Or, Why I am doing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ediction of what you expect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en (an educated guess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ke sure you always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a hypothesis!!!!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equipment or materials will I need to complete the la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dure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ken to achieve a desired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s/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kind of data or information did I ob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Questions and Conclu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What did I learn? Did I perform the lab correctly? If not, why not? What went wrong? Each lab will have questions. Be sure every question is answered correc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ANSWER IN COMPLETE SENTENCES!!!!!!!!!!!!!!!!!!!!!!!!!!!!!!!!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90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Tests and Quizz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s and Quizzes are worth 50% of your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ike your test grade? Well, you have up to 3 retakes to improve your sc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t thing you can do in this class is miss a test or quiz and not make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up a test or Retake a test you will need to visit: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ttp://quizstar.4teachers.org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gister for my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ademic Integr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caught cheating, I will take the assignment from you and the work will count as a zero in my grad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ing other peoples work is a form of Plagiarism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257800" y="3514680"/>
            <a:ext cx="2438280" cy="18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v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n effort to listen and lear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will almost always be questions that accompany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ie will often be followed by a quiz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: tests and quizzes are worth 50% of your grad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Earth 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are 4 easy things you will need to do by the end of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assignment you’re working on right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Quiz star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take online tes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with Homelink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so you can check your grade 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ake your 1st quiz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494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If you are absent…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lass is divided up in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in parts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bs or 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sts and Quizz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ever absent and need to make up classwork, labs, or tests; please go to my class website: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ttp://wikifuller.wikispaces.com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 Black"/>
              </a:rPr>
              <a:t>Class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is worth 20% of your gr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work consists of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rnell notes, Test notes, and Bell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is due every Friday unless otherwise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Bellwork is worth 2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eks Worth of Bellwork (5 days) is worth 100 poi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lwork can be made up online at my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24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nel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nell Notes are due on the day of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day of Cornell Notes is worth 50 poi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Unit we will have 3 or 4 days of no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3 days of notes is worth 150 points and 4 days of notes is worth 200 points!!!!!!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69080" y="0"/>
            <a:ext cx="1474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Question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What side do I write the question 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estions always go on the left side and the answers always go on the righ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938000">
            <a:off x="1445760" y="2421000"/>
            <a:ext cx="68580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60"/>
                            </p:stCondLst>
                            <p:childTnLst>
                              <p:par>
                                <p:cTn id="1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6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2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267080" y="1523880"/>
            <a:ext cx="48769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66688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152388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5867280"/>
            <a:ext cx="487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362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23623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/diagrams/draw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5257800"/>
            <a:ext cx="358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6668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goes on the lef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and the answer g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gh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266720" y="2819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wri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60958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27432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0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38680" y="5486400"/>
            <a:ext cx="236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2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2057400"/>
            <a:ext cx="4800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1752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19051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5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219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Quick writes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are a dail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question worth 5 point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That you answer in 1-2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Sentences. Quickwri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designed to g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you thinking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Cornell Note Poi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290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Main Section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 of yo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notes are worth 20 poi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480060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Summaries 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are wort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20 points.  Summa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contain diagram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important inform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which may be on the test!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st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notes that you can use on the test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ho complete their test notes usually receive an A or B on th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will be passed out 1-2 days before the test and they are to be completed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Notes are due on the day of the test along with Cornel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42:41Z</dcterms:created>
  <dc:creator>jfuller</dc:creator>
  <dc:description/>
  <dc:language>en-US</dc:language>
  <cp:lastModifiedBy>jfuller</cp:lastModifiedBy>
  <dcterms:modified xsi:type="dcterms:W3CDTF">2012-08-13T16:16:39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0487734</vt:r8>
  </property>
</Properties>
</file>